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0B1-145D-4145-9AB1-BC37FD3F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0BC-032F-477C-B863-0DA28D3B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3D3-64A9-45EB-B580-DD5ADE02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F78-C7AE-4448-A627-A2D2D4AB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CCF-941F-4739-AABD-D79D9F72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F5CC-20D4-4423-9816-D5D662D9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CE4-D666-4A8C-98BE-FAC01D8A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049-6796-4F34-94CE-EF73740C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9D7-69E9-4AFD-A821-0EFBA9EA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B51-8FF2-4BD8-AA8B-9A3B2847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735-5246-4698-B5D3-75781880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534-6E5B-4D20-8A31-98A0D38D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0FDF-A7A9-4BC7-9553-EFC83DA05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protocol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20" y="247824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8720" y="2706840"/>
            <a:ext cx="54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160" y="198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21160" y="247824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4" idx="0"/>
            <a:endCxn id="47" idx="0"/>
          </p:cNvCxnSpPr>
          <p:nvPr/>
        </p:nvCxnSpPr>
        <p:spPr>
          <a:xfrm flipH="1" rot="16200000">
            <a:off x="2606040" y="1145520"/>
            <a:ext cx="2160" cy="26672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907280" y="198108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, msg.seq=0, 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98920" y="2630520"/>
            <a:ext cx="79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 ex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4" idx="4"/>
            <a:endCxn id="44" idx="2"/>
          </p:cNvCxnSpPr>
          <p:nvPr/>
        </p:nvCxnSpPr>
        <p:spPr>
          <a:xfrm flipV="1" rot="16200000">
            <a:off x="853560" y="2896560"/>
            <a:ext cx="419760" cy="420120"/>
          </a:xfrm>
          <a:prstGeom prst="curvedConnector5">
            <a:avLst>
              <a:gd name="adj1" fmla="val -54506"/>
              <a:gd name="adj2" fmla="val 77272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55160" y="3505320"/>
            <a:ext cx="119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&lt;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7" idx="0"/>
            <a:endCxn id="52" idx="3"/>
          </p:cNvCxnSpPr>
          <p:nvPr/>
        </p:nvCxnSpPr>
        <p:spPr>
          <a:xfrm flipH="1" rot="16200000">
            <a:off x="3979080" y="2439000"/>
            <a:ext cx="381600" cy="459360"/>
          </a:xfrm>
          <a:prstGeom prst="curvedConnector5">
            <a:avLst>
              <a:gd name="adj1" fmla="val -59962"/>
              <a:gd name="adj2" fmla="val 74901"/>
              <a:gd name="adj3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4"/>
            <a:endCxn id="48" idx="2"/>
          </p:cNvCxnSpPr>
          <p:nvPr/>
        </p:nvCxnSpPr>
        <p:spPr>
          <a:xfrm flipV="1" rot="16200000">
            <a:off x="3657240" y="544752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0"/>
            <a:endCxn id="49" idx="0"/>
          </p:cNvCxnSpPr>
          <p:nvPr/>
        </p:nvCxnSpPr>
        <p:spPr>
          <a:xfrm flipH="1" rot="16200000">
            <a:off x="5790240" y="3315240"/>
            <a:ext cx="2160" cy="3429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9" idx="4"/>
            <a:endCxn id="48" idx="4"/>
          </p:cNvCxnSpPr>
          <p:nvPr/>
        </p:nvCxnSpPr>
        <p:spPr>
          <a:xfrm rot="5400000">
            <a:off x="5789520" y="4153320"/>
            <a:ext cx="2520" cy="3429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2"/>
            <a:endCxn id="47" idx="2"/>
          </p:cNvCxnSpPr>
          <p:nvPr/>
        </p:nvCxnSpPr>
        <p:spPr>
          <a:xfrm rot="10800000">
            <a:off x="3520440" y="2896560"/>
            <a:ext cx="137160" cy="2551680"/>
          </a:xfrm>
          <a:prstGeom prst="curvedConnector5">
            <a:avLst>
              <a:gd name="adj1" fmla="val 267368"/>
              <a:gd name="adj2" fmla="val 49992"/>
              <a:gd name="adj3" fmla="val 26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48" idx="6"/>
          </p:cNvCxnSpPr>
          <p:nvPr/>
        </p:nvCxnSpPr>
        <p:spPr>
          <a:xfrm>
            <a:off x="4398480" y="2859120"/>
            <a:ext cx="97560" cy="2589840"/>
          </a:xfrm>
          <a:prstGeom prst="curvedConnector5">
            <a:avLst>
              <a:gd name="adj1" fmla="val 335925"/>
              <a:gd name="adj2" fmla="val 49993"/>
              <a:gd name="adj3" fmla="val 335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7"/>
            <a:endCxn id="49" idx="6"/>
          </p:cNvCxnSpPr>
          <p:nvPr/>
        </p:nvCxnSpPr>
        <p:spPr>
          <a:xfrm flipH="1" rot="16200000">
            <a:off x="4656600" y="2179440"/>
            <a:ext cx="2848680" cy="3688200"/>
          </a:xfrm>
          <a:prstGeom prst="curvedConnector5">
            <a:avLst>
              <a:gd name="adj1" fmla="val -12310"/>
              <a:gd name="adj2" fmla="val 53094"/>
              <a:gd name="adj3" fmla="val -12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49" idx="7"/>
          </p:cNvCxnSpPr>
          <p:nvPr/>
        </p:nvCxnSpPr>
        <p:spPr>
          <a:xfrm>
            <a:off x="4398480" y="2859120"/>
            <a:ext cx="3404520" cy="229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7" idx="5"/>
            <a:endCxn id="49" idx="2"/>
          </p:cNvCxnSpPr>
          <p:nvPr/>
        </p:nvCxnSpPr>
        <p:spPr>
          <a:xfrm flipH="1" rot="16200000">
            <a:off x="4533840" y="2896200"/>
            <a:ext cx="2255040" cy="285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49" idx="4"/>
          </p:cNvCxnSpPr>
          <p:nvPr/>
        </p:nvCxnSpPr>
        <p:spPr>
          <a:xfrm flipH="1">
            <a:off x="7505280" y="544824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229280" y="1936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6000" y="1752480"/>
            <a:ext cx="15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ack.seq&lt;&gt;seq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398680"/>
            <a:ext cx="20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, seq=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What happenes to outst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Mess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0600" y="52578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0440" y="52941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6080" y="3429000"/>
            <a:ext cx="10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440" y="4495680"/>
            <a:ext cx="96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5760" y="4419720"/>
            <a:ext cx="17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ize &gt; maxUDP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eceive TCP connec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8160" y="61326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so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42120" y="575136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0920" y="3200400"/>
            <a:ext cx="155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; move que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CP, re-try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5600" y="5181480"/>
            <a:ext cx="143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too lo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queue to TC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9400" y="5867280"/>
            <a:ext cx="10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4" idx="5"/>
            <a:endCxn id="49" idx="1"/>
          </p:cNvCxnSpPr>
          <p:nvPr/>
        </p:nvCxnSpPr>
        <p:spPr>
          <a:xfrm flipH="1" rot="16200000">
            <a:off x="3410640" y="1352880"/>
            <a:ext cx="1958400" cy="5639760"/>
          </a:xfrm>
          <a:prstGeom prst="curvedConnector5">
            <a:avLst>
              <a:gd name="adj1" fmla="val 49954"/>
              <a:gd name="adj2" fmla="val 49996"/>
              <a:gd name="adj3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1681560" y="32004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6:22:07Z</dcterms:created>
  <dc:creator>Peter Druschel</dc:creator>
  <dc:description/>
  <dc:language>en-US</dc:language>
  <cp:lastModifiedBy>Peter Druschel</cp:lastModifiedBy>
  <dcterms:modified xsi:type="dcterms:W3CDTF">2002-09-08T16:58:34Z</dcterms:modified>
  <cp:revision>7</cp:revision>
  <dc:subject/>
  <dc:title>Wire protocol state machine</dc:title>
</cp:coreProperties>
</file>